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97C-6565-48BE-92AB-301970CD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E5B-CC77-4B4D-BEC1-881D0BFB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277-A69C-4C43-887B-B0AE4C0D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98D-645C-4E53-A4D6-40AC0A83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B3C-7D4D-4204-9812-C6138FB8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609-3025-46F0-834B-6C8C220F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68F-1D52-4080-A8EE-3253312D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42F-B2D3-4CA5-AE6D-C1C61783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23A-F0D1-4726-B9E4-17D26636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E41-027F-43FF-8D67-46382ADD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C19-BE11-4C08-9636-CE12E4E4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571-AE65-406F-BCD4-89352919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F025-8F95-4571-9C3B-0D9A8D1B4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he P-val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1752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934320" y="5334120"/>
            <a:ext cx="14475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76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7238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401760"/>
            <a:ext cx="7543800" cy="325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3619440"/>
            <a:ext cx="754380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50160" y="4095720"/>
            <a:ext cx="150804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2813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838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754380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543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327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4038480"/>
            <a:ext cx="7543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2362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543800" cy="2895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543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27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239240" cy="38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426708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3384720"/>
            <a:ext cx="7391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1358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7162560" cy="1009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1625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43800" cy="132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739152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723888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1447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086600" cy="310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1T19:55:17Z</dcterms:modified>
  <cp:revision>44</cp:revision>
  <dc:subject/>
  <dc:title>PowerPoint Presentation</dc:title>
</cp:coreProperties>
</file>